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2.jpeg" ContentType="image/jpeg"/>
  <Override PartName="/ppt/media/cashreg.wav" ContentType="audio/x-wav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5C29-2633-45A3-A730-0898CFEF38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Наши потребности в пище всегда ограничены стенками нашего желудк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 смысл выра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Наши потребности в пище всегда ограничены стенками нашего желудка»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ъясните смысл выраж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900igr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епени насыщенности потребительск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а товар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епени насыщенности потребительског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а товара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оличество денег, полученное отдельными лицами в течение определенного пери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количество денег, полученное отдельными лицами в течение определенного период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доход, который может быть использован на личное потребление и личные сбере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доход, который может быть использован на личное потребление и личные сбереж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асполагаемый доход с учетом инфля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располагаемый доход с учетом инфляц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от предпринимательск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 от предпринимательско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н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пенд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е пособ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ные пособ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о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виден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виден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н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а от продажи ценных бума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вижимост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укции сельского хозяйств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х издел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ства от продажи ценных бума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движимости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дукции сельского хозяйства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ных издел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человека - это поток денежных поступлений в единицу време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вы думаете, доход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гатство связа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м-либо образ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если связаны, то каки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 человека - это поток денежных поступлений в единицу време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 вы думаете, доход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гатство связаны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руг с друг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им-либо образ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если связаны, то каким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от различных услу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азанных на сторо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от различных услу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азанных на сторо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еренциация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зница в уровне денежных доходов различных слоев и групп нас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фференциация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разница в уровне денежных доходов различных слоев и групп нас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ая ценность, принадлежащих людям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ая успешность использования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ый объем, принадлежащих людям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ая ценность, принадлежащих людям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ая успешность использования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ый объем, принадлежащих людям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о врожденных способностях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криминация на рынке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ия во врожденных способностях люд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ия в производительности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скриминация на рынке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оженность людей к рис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ача и несчаст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ущественные различ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оженность людей к риск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дача и несчасть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ущественные различ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оследствия сильной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ледствия сильной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рения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рения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Джи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эффициент Джин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часто говоря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«богатство - поня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ое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ы ли вы 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м утверждение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чень часто говорят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то «богатство - понят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носительное»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ы ли вы с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м утверждением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деление функций работодателей и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неравенства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ессивное обложе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государственной и социальной поддержки граждан (трансферты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деление функций работодателей и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 неравенства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ессивное обложе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стема государственной и социальной поддержки граждан (трансферты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внива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ыравнива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сем цивилизованном мире, чем выше образование, тем выше уровень дох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чем тогда люд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емя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ть высш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 всем цивилизованном мире, чем выше образование, тем выше уровень доходов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чем тогда люд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емя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ить высше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счит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ессивно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ооб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ов абсолют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едливы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обретен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тв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но ли считать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ессивно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огооблож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ичных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ов абсолют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аведливы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обретение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ловечества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чем связа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явл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чем связа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явле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кономическая лаборатория «Богатство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ая лаборатория «Богатство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йте кривую Лоренца для этого ц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тройте кривую Лоренца для этого цар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личество товаров и услу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торые мы можем купить, определяются исключитель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им доходом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едливо ли э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Количество товаров и услу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торые мы можем купить, определяются исключитель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шим доходом»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аведливо ли эт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твержде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скупость отличае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экономност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м образом мож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работать богатств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упостью и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ность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м скупость отличае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 экономности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им образом мож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стре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работать богатство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упостью ил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ностью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аспределе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04.01.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04.01.20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ки розничны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намики розничных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48EC-A8D1-4C45-BAE8-BAD885E7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070-4910-4B79-861A-5856FDFA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4E3-02B3-41CF-BDE1-C7134F31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7A2-DF99-41FA-9B1D-FA010E4B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E4DA-871C-4F03-BAEB-A92C3F1C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50BF-7386-4F71-A2C8-BDE7E94D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135E-8889-49DB-B09F-635EBD75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384F-E37A-4CFB-ACC2-4F731EAB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FC3E-589B-4BDF-8054-2DFCE6B4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6909-3F10-44AF-A744-592CF8B6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179F-78CA-4C61-9AC9-BA87A225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63D-EC23-4520-BCAF-C340EED6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A79E-B11C-4E50-A032-C33B504C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5F3C-A200-4012-B88B-64991F31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5FCC-C128-4963-A4E0-9B58407D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2D17-E0F6-4F5C-B456-7244B246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2FFD-9F26-40CD-A2D9-2AB4AED5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8D4-78E8-49C7-8D33-FA5DEDAB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E3C-1E41-4864-AF76-EBF0E78F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0A2-FC12-4D6C-A66F-837DE2E3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2B3-4DF0-49DA-A951-5F82FA63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77FC-BB06-4612-B238-26406B51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DEF-86E9-4086-8980-D973BF83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3B3-FAD7-4A78-8737-7F66B951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169A-83F7-436B-9E6D-231E7D281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3DB8-14A7-4ABB-B104-D7D07A3B20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day.az/pictures/pic174255.jpg" TargetMode="External"/><Relationship Id="rId4" Type="http://schemas.openxmlformats.org/officeDocument/2006/relationships/image" Target="../media/image4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erm.aif.ru/application/public/news/936/065c56d7a2037771b3c3dab16b173a87_big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if.ru/application/public/news/289/f4d2ecdd672952bce23c992d05143e85_big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atic2.aif.ru/public/news/813/ea4b9fc02de54d413edaef5c571a2491_big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ergeynikolaev.com/lj/zarplata-1.jpg" TargetMode="External"/><Relationship Id="rId2" Type="http://schemas.openxmlformats.org/officeDocument/2006/relationships/image" Target="../media/image2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eeside.ac.uk/img/money.jpg" TargetMode="External"/><Relationship Id="rId2" Type="http://schemas.openxmlformats.org/officeDocument/2006/relationships/image" Target="../media/image2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yivsta.gov.ua/news/2008/11/1121_5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kerb.ru/index.php?option=com_datsogallery&amp;Itemid=6&amp;func=download&amp;file=B361B5330C70-4.jpg" TargetMode="External"/><Relationship Id="rId4" Type="http://schemas.openxmlformats.org/officeDocument/2006/relationships/image" Target="../media/image22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molensk2.ru/images/img_9519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kampk.ucoz.ru/Novosti/News2009-2010/Stypendija_miskrady.jpg" TargetMode="External"/><Relationship Id="rId4" Type="http://schemas.openxmlformats.org/officeDocument/2006/relationships/image" Target="../media/image24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g1.liveinternet.ru/images/foto/b/3/97/3012097/f_16919489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stat8.blog.ru/lr/0a0279ca3f244fe11d1e3d749d76bdbf" TargetMode="External"/><Relationship Id="rId5" Type="http://schemas.openxmlformats.org/officeDocument/2006/relationships/image" Target="../media/image8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www.ru-boss.com/uploads/posts/2007-12/thumbs/1198344203_39705.jpg" TargetMode="External"/><Relationship Id="rId5" Type="http://schemas.openxmlformats.org/officeDocument/2006/relationships/image" Target="../media/image9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karikaturist.ru/images/karikaturist/w1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aif.ru/application/public/opinion/905/0b9d6c7710ec3d137963260f74bc17e1_big.jpg" TargetMode="External"/><Relationship Id="rId7" Type="http://schemas.openxmlformats.org/officeDocument/2006/relationships/image" Target="../media/image11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azeta.a42.ru/images/lenta/2792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emplayer.files.wordpress.com/2008/12/revenue.jpg?w=300&amp;h=245" TargetMode="External"/><Relationship Id="rId2" Type="http://schemas.openxmlformats.org/officeDocument/2006/relationships/image" Target="../media/image1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inus.vl.ru/mtravel/america/photo/album/2/gamburger.jpg" TargetMode="External"/><Relationship Id="rId2" Type="http://schemas.openxmlformats.org/officeDocument/2006/relationships/image" Target="../media/image1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yivsta.gov.ua/news/2008/11/1121_5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s48.radikal.ru/i121/0911/7a/57f9955d05e5.jpg" TargetMode="External"/><Relationship Id="rId4" Type="http://schemas.openxmlformats.org/officeDocument/2006/relationships/image" Target="../media/image16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608200" y="3994200"/>
            <a:ext cx="184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95280" y="901800"/>
            <a:ext cx="8353440" cy="207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«Наши потребности в пище всегда ограничены стенками нашего желудка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Объясните смысл выраж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35000" cy="766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Картинка 14 из 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3044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Уровень доходов населения зависит от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Картинка 13 из 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285920"/>
            <a:ext cx="7424640" cy="55720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7"/>
          <p:cNvSpPr/>
          <p:nvPr/>
        </p:nvSpPr>
        <p:spPr>
          <a:xfrm>
            <a:off x="2268360" y="5288040"/>
            <a:ext cx="635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Степени насыщенности потребительског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ынка товар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Доходы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684360" y="907920"/>
            <a:ext cx="7921440" cy="2665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2" descr="Картинка 14 из 78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440160"/>
            <a:ext cx="4643280" cy="34178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Номинальн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684360" y="907920"/>
            <a:ext cx="7921440" cy="1800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количество денег, полученное отдельными лицами в течение определенного пери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2" descr="Картинка 1 из 78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708280"/>
            <a:ext cx="5327640" cy="39225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Располагаем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684360" y="907920"/>
            <a:ext cx="7921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доход, который может быть использован на личное потребление и личные сбереж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11280" y="4437000"/>
            <a:ext cx="7921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" descr="Картинка 18 из 24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2421000"/>
            <a:ext cx="2500560" cy="200016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Реальн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84360" y="907920"/>
            <a:ext cx="7921440" cy="12258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это располагаемый доход с учетом инфля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2" descr="http://www.deeside.ac.uk/img/mon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565360"/>
            <a:ext cx="5413320" cy="405936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2" descr="Картинка 10 из 2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052640"/>
            <a:ext cx="3687840" cy="3384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Картинка 36 из 1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060640"/>
            <a:ext cx="4537080" cy="3286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7"/>
          <p:cNvSpPr/>
          <p:nvPr/>
        </p:nvSpPr>
        <p:spPr>
          <a:xfrm>
            <a:off x="3247920" y="5445000"/>
            <a:ext cx="55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 от предпринимательс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2" descr="Картинка 1 из 589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836640"/>
            <a:ext cx="3911760" cy="46432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9"/>
          <p:cNvSpPr/>
          <p:nvPr/>
        </p:nvSpPr>
        <p:spPr>
          <a:xfrm>
            <a:off x="1186920" y="558972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енс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4" descr="Картинка 3 из 520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836640"/>
            <a:ext cx="3907080" cy="4608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1"/>
          <p:cNvSpPr/>
          <p:nvPr/>
        </p:nvSpPr>
        <p:spPr>
          <a:xfrm>
            <a:off x="5226840" y="551664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стипенди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Картинка 9 из 312481"/>
          <p:cNvPicPr/>
          <p:nvPr/>
        </p:nvPicPr>
        <p:blipFill>
          <a:blip r:embed="rId1"/>
          <a:stretch/>
        </p:blipFill>
        <p:spPr>
          <a:xfrm>
            <a:off x="324000" y="765000"/>
            <a:ext cx="5076720" cy="33721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8"/>
          <p:cNvSpPr/>
          <p:nvPr/>
        </p:nvSpPr>
        <p:spPr>
          <a:xfrm>
            <a:off x="687600" y="4214880"/>
            <a:ext cx="39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ные пособ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4" descr="Картинка 7 из 3606806"/>
          <p:cNvPicPr/>
          <p:nvPr/>
        </p:nvPicPr>
        <p:blipFill>
          <a:blip r:embed="rId2"/>
          <a:stretch/>
        </p:blipFill>
        <p:spPr>
          <a:xfrm>
            <a:off x="4643280" y="2637000"/>
            <a:ext cx="4283280" cy="3214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4"/>
          <p:cNvSpPr/>
          <p:nvPr/>
        </p:nvSpPr>
        <p:spPr>
          <a:xfrm>
            <a:off x="5839560" y="6027840"/>
            <a:ext cx="255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ы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собствен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2" descr="Картинка 7 из 9113"/>
          <p:cNvPicPr/>
          <p:nvPr/>
        </p:nvPicPr>
        <p:blipFill>
          <a:blip r:embed="rId1"/>
          <a:stretch/>
        </p:blipFill>
        <p:spPr>
          <a:xfrm>
            <a:off x="250920" y="907920"/>
            <a:ext cx="5554440" cy="34290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9"/>
          <p:cNvSpPr/>
          <p:nvPr/>
        </p:nvSpPr>
        <p:spPr>
          <a:xfrm>
            <a:off x="443160" y="90792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44"/>
                </a:solidFill>
                <a:latin typeface="Arial Black"/>
              </a:rPr>
              <a:t>дивиденд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4" descr="Картинка 16 из 63130"/>
          <p:cNvPicPr/>
          <p:nvPr/>
        </p:nvPicPr>
        <p:blipFill>
          <a:blip r:embed="rId2"/>
          <a:stretch/>
        </p:blipFill>
        <p:spPr>
          <a:xfrm>
            <a:off x="5003640" y="3048120"/>
            <a:ext cx="3924360" cy="38098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3"/>
          <p:cNvSpPr/>
          <p:nvPr/>
        </p:nvSpPr>
        <p:spPr>
          <a:xfrm>
            <a:off x="5053320" y="299736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рен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2" descr="Картинка 4 из 586181"/>
          <p:cNvPicPr/>
          <p:nvPr/>
        </p:nvPicPr>
        <p:blipFill>
          <a:blip r:embed="rId1"/>
          <a:stretch/>
        </p:blipFill>
        <p:spPr>
          <a:xfrm>
            <a:off x="539640" y="836640"/>
            <a:ext cx="8089920" cy="5616720"/>
          </a:xfrm>
          <a:prstGeom prst="rect">
            <a:avLst/>
          </a:prstGeom>
          <a:ln w="0">
            <a:noFill/>
          </a:ln>
        </p:spPr>
      </p:pic>
      <p:sp>
        <p:nvSpPr>
          <p:cNvPr id="248" name="TextBox 7"/>
          <p:cNvSpPr/>
          <p:nvPr/>
        </p:nvSpPr>
        <p:spPr>
          <a:xfrm>
            <a:off x="997560" y="4221000"/>
            <a:ext cx="7064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редства от продажи ценных бумаг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едвижимост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дукции сельского хозяйств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ных издел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95280" y="907920"/>
            <a:ext cx="8353440" cy="3097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 человека - это поток денежных поступлений в единицу време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Картинка 18 из 154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08720" y="907920"/>
            <a:ext cx="1403640" cy="143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D:\marina\картинки\человек\Рисунок1.gif"/>
          <p:cNvPicPr/>
          <p:nvPr/>
        </p:nvPicPr>
        <p:blipFill>
          <a:blip r:embed="rId5"/>
          <a:stretch/>
        </p:blipFill>
        <p:spPr>
          <a:xfrm>
            <a:off x="250920" y="46530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60" name="Выноска-облако 9"/>
          <p:cNvSpPr/>
          <p:nvPr/>
        </p:nvSpPr>
        <p:spPr>
          <a:xfrm>
            <a:off x="2124000" y="3716280"/>
            <a:ext cx="6769080" cy="2808360"/>
          </a:xfrm>
          <a:prstGeom prst="cloudCallout">
            <a:avLst>
              <a:gd name="adj1" fmla="val -61500"/>
              <a:gd name="adj2" fmla="val 11796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Как вы думаете, доход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богатство связан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друг с друг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каким-либо образ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и если связаны, то каким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2" descr="Картинка 13 из 1665348"/>
          <p:cNvPicPr/>
          <p:nvPr/>
        </p:nvPicPr>
        <p:blipFill>
          <a:blip r:embed="rId1"/>
          <a:stretch/>
        </p:blipFill>
        <p:spPr>
          <a:xfrm>
            <a:off x="971640" y="836640"/>
            <a:ext cx="7210440" cy="42861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6"/>
          <p:cNvSpPr/>
          <p:nvPr/>
        </p:nvSpPr>
        <p:spPr>
          <a:xfrm>
            <a:off x="2073600" y="5229360"/>
            <a:ext cx="480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ы от различных услуг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оказанных на сторо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Дифференциация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84360" y="836640"/>
            <a:ext cx="7921440" cy="172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разница в уровне денежных доходов различных слоев и групп нас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7" descr="http://s60.radikal.ru/i170/0911/d5/70e33d3c3c32.jpg"/>
          <p:cNvPicPr/>
          <p:nvPr/>
        </p:nvPicPr>
        <p:blipFill>
          <a:blip r:embed="rId1"/>
          <a:srcRect l="887" t="30236" r="0" b="3780"/>
          <a:stretch/>
        </p:blipFill>
        <p:spPr>
          <a:xfrm>
            <a:off x="2556000" y="2492280"/>
            <a:ext cx="4417920" cy="41436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ая ценность, принадлежащих людям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ая успешность использования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2400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ый объем, принадлежащих людям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личия во врожденных способностях люд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личия в производительности тру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25092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дискриминация на рынке тру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сположенность людей к рис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удача и несчасть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5092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имущественные различ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оследствия сильной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2" descr="Картинка 39 из 197"/>
          <p:cNvPicPr/>
          <p:nvPr/>
        </p:nvPicPr>
        <p:blipFill>
          <a:blip r:embed="rId1"/>
          <a:stretch/>
        </p:blipFill>
        <p:spPr>
          <a:xfrm>
            <a:off x="1692360" y="1484280"/>
            <a:ext cx="5763960" cy="51134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змерения дифференциации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68360" y="1700280"/>
            <a:ext cx="7921440" cy="172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6" descr="http://gemplayer.files.wordpress.com/2008/12/revenue.jpg?w=300&amp;h=245"/>
          <p:cNvPicPr/>
          <p:nvPr/>
        </p:nvPicPr>
        <p:blipFill>
          <a:blip r:embed="rId1"/>
          <a:stretch/>
        </p:blipFill>
        <p:spPr>
          <a:xfrm>
            <a:off x="2771640" y="3645000"/>
            <a:ext cx="3438720" cy="280980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ривая Лоренц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68360" y="1125360"/>
            <a:ext cx="7921440" cy="4607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—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ривая Лоренц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3" descr="E:\marina\10 класс экономика\Несостоятельность рынка и государственное регулирование\Кривая_Лоренца_и_коэффициент_Робин_Гуда[1].jpg"/>
          <p:cNvPicPr/>
          <p:nvPr/>
        </p:nvPicPr>
        <p:blipFill>
          <a:blip r:embed="rId1"/>
          <a:stretch/>
        </p:blipFill>
        <p:spPr>
          <a:xfrm>
            <a:off x="682560" y="743040"/>
            <a:ext cx="7985160" cy="571320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ая соединительная линия 12"/>
          <p:cNvSpPr/>
          <p:nvPr/>
        </p:nvSpPr>
        <p:spPr>
          <a:xfrm flipH="1">
            <a:off x="1618920" y="5444280"/>
            <a:ext cx="431640" cy="287640"/>
          </a:xfrm>
          <a:prstGeom prst="line">
            <a:avLst/>
          </a:prstGeom>
          <a:ln w="8568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6" name="Прямая соединительная линия 29"/>
          <p:cNvCxnSpPr/>
          <p:nvPr/>
        </p:nvCxnSpPr>
        <p:spPr>
          <a:xfrm flipV="1">
            <a:off x="1692360" y="5444280"/>
            <a:ext cx="1296000" cy="288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7" name="Прямая соединительная линия 29"/>
          <p:cNvCxnSpPr/>
          <p:nvPr/>
        </p:nvCxnSpPr>
        <p:spPr>
          <a:xfrm flipV="1">
            <a:off x="2987280" y="4796640"/>
            <a:ext cx="1297800" cy="648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8" name="Прямая соединительная линия 29"/>
          <p:cNvCxnSpPr/>
          <p:nvPr/>
        </p:nvCxnSpPr>
        <p:spPr>
          <a:xfrm flipV="1">
            <a:off x="4284360" y="3789000"/>
            <a:ext cx="1367640" cy="100872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9" name="Прямая соединительная линия 29"/>
          <p:cNvCxnSpPr/>
          <p:nvPr/>
        </p:nvCxnSpPr>
        <p:spPr>
          <a:xfrm flipV="1">
            <a:off x="5651280" y="2707560"/>
            <a:ext cx="1369080" cy="108180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90" name="Прямая соединительная линия 29"/>
          <p:cNvCxnSpPr/>
          <p:nvPr/>
        </p:nvCxnSpPr>
        <p:spPr>
          <a:xfrm flipV="1">
            <a:off x="7018920" y="1051920"/>
            <a:ext cx="1152720" cy="1656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sp>
        <p:nvSpPr>
          <p:cNvPr id="29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оэффициент Джин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468360" y="1125360"/>
            <a:ext cx="7921440" cy="3167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95280" y="1268280"/>
            <a:ext cx="8353440" cy="15861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чень часто говорят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то «богатство - понят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тносительное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468360" y="4797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67" name="Выноска-облако 9"/>
          <p:cNvSpPr/>
          <p:nvPr/>
        </p:nvSpPr>
        <p:spPr>
          <a:xfrm>
            <a:off x="2340000" y="3716280"/>
            <a:ext cx="6264360" cy="1657440"/>
          </a:xfrm>
          <a:prstGeom prst="cloudCallout">
            <a:avLst>
              <a:gd name="adj1" fmla="val -65425"/>
              <a:gd name="adj2" fmla="val 58009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огласны ли вы с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этим утверждение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10" descr="Картинка 20 из 78680">
            <a:hlinkClick r:id="rId4"/>
          </p:cNvPr>
          <p:cNvPicPr/>
          <p:nvPr/>
        </p:nvPicPr>
        <p:blipFill>
          <a:blip r:embed="rId5"/>
          <a:srcRect l="9976" t="10919" r="0" b="22678"/>
          <a:stretch/>
        </p:blipFill>
        <p:spPr>
          <a:xfrm>
            <a:off x="7164360" y="1270080"/>
            <a:ext cx="1571760" cy="1531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324000" y="1341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деление функций работодателей и государ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осударственное регулирование неравенства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прогрессивное обложение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250920" y="4365720"/>
            <a:ext cx="864072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система государственной и социальной поддержки граждан (трансферты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Выравнивание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68360" y="1125360"/>
            <a:ext cx="7921440" cy="2880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95280" y="1197000"/>
            <a:ext cx="8209080" cy="1584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Во всем цивилизованном мире, чем выше образование, тем выше уровень доход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95280" y="3068640"/>
            <a:ext cx="8209080" cy="1512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1547640" y="5229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09" name="Выноска-облако 9"/>
          <p:cNvSpPr/>
          <p:nvPr/>
        </p:nvSpPr>
        <p:spPr>
          <a:xfrm>
            <a:off x="3132000" y="4365720"/>
            <a:ext cx="4392720" cy="2232000"/>
          </a:xfrm>
          <a:prstGeom prst="cloudCallout">
            <a:avLst>
              <a:gd name="adj1" fmla="val -67115"/>
              <a:gd name="adj2" fmla="val 14384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Зачем тогда лю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тремят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получить высше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образован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755640" y="26370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15" name="Выноска-облако 9"/>
          <p:cNvSpPr/>
          <p:nvPr/>
        </p:nvSpPr>
        <p:spPr>
          <a:xfrm>
            <a:off x="2843280" y="1268280"/>
            <a:ext cx="5400720" cy="4392720"/>
          </a:xfrm>
          <a:prstGeom prst="cloudCallout">
            <a:avLst>
              <a:gd name="adj1" fmla="val -67662"/>
              <a:gd name="adj2" fmla="val -3745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Можно ли счит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прогрессивно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налогооблож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л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доходов абсолют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праведливы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изобретени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честв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907920"/>
            <a:ext cx="8424720" cy="2665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250920" y="3716280"/>
            <a:ext cx="8424720" cy="1513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1547640" y="5229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23" name="Выноска-облако 9"/>
          <p:cNvSpPr/>
          <p:nvPr/>
        </p:nvSpPr>
        <p:spPr>
          <a:xfrm>
            <a:off x="3348000" y="5229360"/>
            <a:ext cx="4392720" cy="1079280"/>
          </a:xfrm>
          <a:prstGeom prst="cloudCallout">
            <a:avLst>
              <a:gd name="adj1" fmla="val -67115"/>
              <a:gd name="adj2" fmla="val 14384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 чем связа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это явлен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Экономическая лаборатория «Богатство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2" descr="Картинка 4 из 586181"/>
          <p:cNvPicPr/>
          <p:nvPr/>
        </p:nvPicPr>
        <p:blipFill>
          <a:blip r:embed="rId1"/>
          <a:stretch/>
        </p:blipFill>
        <p:spPr>
          <a:xfrm>
            <a:off x="538200" y="1341360"/>
            <a:ext cx="7948440" cy="551664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50920" y="907920"/>
            <a:ext cx="8424720" cy="518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остройте кривую Лоренца для этого цар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95280" y="1052640"/>
            <a:ext cx="8353440" cy="18018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Количество товаров и услуг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оторые мы можем купить, определяются исключитель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шим доходом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468360" y="4797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75" name="Выноска-облако 9"/>
          <p:cNvSpPr/>
          <p:nvPr/>
        </p:nvSpPr>
        <p:spPr>
          <a:xfrm>
            <a:off x="2340000" y="3716280"/>
            <a:ext cx="6264360" cy="1657440"/>
          </a:xfrm>
          <a:prstGeom prst="cloudCallout">
            <a:avLst>
              <a:gd name="adj1" fmla="val -65425"/>
              <a:gd name="adj2" fmla="val 58009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праведливо ли эт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утвержден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8" descr="Картинка 7 из 78680">
            <a:hlinkClick r:id="rId4"/>
          </p:cNvPr>
          <p:cNvPicPr/>
          <p:nvPr/>
        </p:nvPicPr>
        <p:blipFill>
          <a:blip r:embed="rId5"/>
          <a:srcRect l="0" t="0" r="0" b="10079"/>
          <a:stretch/>
        </p:blipFill>
        <p:spPr>
          <a:xfrm>
            <a:off x="7236000" y="1125360"/>
            <a:ext cx="1498320" cy="17211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611280" y="148428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82" name="Выноска-облако 9"/>
          <p:cNvSpPr/>
          <p:nvPr/>
        </p:nvSpPr>
        <p:spPr>
          <a:xfrm>
            <a:off x="2556000" y="836640"/>
            <a:ext cx="6264000" cy="1655640"/>
          </a:xfrm>
          <a:prstGeom prst="cloudCallout">
            <a:avLst>
              <a:gd name="adj1" fmla="val -62129"/>
              <a:gd name="adj2" fmla="val 32185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Чем скупость отличае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от экономност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Выноска-облако 10"/>
          <p:cNvSpPr/>
          <p:nvPr/>
        </p:nvSpPr>
        <p:spPr>
          <a:xfrm>
            <a:off x="2340000" y="476280"/>
            <a:ext cx="6553080" cy="3457440"/>
          </a:xfrm>
          <a:prstGeom prst="cloudCallout">
            <a:avLst>
              <a:gd name="adj1" fmla="val -62129"/>
              <a:gd name="adj2" fmla="val -1652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Каким образом мож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быстре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заработать богатство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купостью и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экономность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9" descr="Картинка 53 из 9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3716280"/>
            <a:ext cx="2000160" cy="2739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Картинка 39 из 37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40360" y="3933720"/>
            <a:ext cx="4119480" cy="2735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611280" y="476280"/>
            <a:ext cx="7921440" cy="26636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7" descr="Картинка 20 из 21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573360"/>
            <a:ext cx="3860640" cy="28418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1068120"/>
            <a:ext cx="81374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Распределение доходов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6732720" y="0"/>
            <a:ext cx="2411280" cy="620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2B05-90F1-4714-BB97-B2F5F0CF9FAF}" type="datetime">
              <a:rPr b="1" lang="ru-RU" sz="3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6" descr="http://gemplayer.files.wordpress.com/2008/12/revenue.jpg?w=300&amp;h=2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3141720"/>
            <a:ext cx="423072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611280" y="476280"/>
            <a:ext cx="7921440" cy="230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7" descr="Картинка 14 из 86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314172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Уровень доходов населения зависит от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Картинка 10 из 2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14920" cy="3500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Картинка 1 из 27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349360"/>
            <a:ext cx="4500720" cy="24703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5"/>
          <p:cNvSpPr/>
          <p:nvPr/>
        </p:nvSpPr>
        <p:spPr>
          <a:xfrm>
            <a:off x="4772520" y="2349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инамики розничных ц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8:21:54Z</dcterms:created>
  <dc:creator>SVG</dc:creator>
  <dc:description/>
  <dc:language>en-US</dc:language>
  <cp:lastModifiedBy>LEGION</cp:lastModifiedBy>
  <dcterms:modified xsi:type="dcterms:W3CDTF">2016-01-04T08:16:17Z</dcterms:modified>
  <cp:revision>239</cp:revision>
  <dc:subject/>
  <dc:title>Разминка</dc:title>
</cp:coreProperties>
</file>